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997F-EA89-451A-BB22-A3FC6F451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0515-56B6-4891-B279-0B92AB85A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B31D-CA87-4707-806F-77B8480EB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6201-C4D1-4143-89E7-044EE7473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8F9B-20ED-485F-9E8A-E198AA59B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247C-4C89-49F5-9A19-7B5950540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EE45-35D2-4918-8571-EA3CB19A7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9EF6-0595-40C1-9596-93AFE86E2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3610-454A-4108-BACF-58A4C6265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4920" y="321912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0492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71708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16240" y="99036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27560" y="99036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04920" y="321912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16240" y="321912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27560" y="321912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3045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1708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4920" y="321912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4920" y="321912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1708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16240" y="99036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27560" y="99036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04920" y="321912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16240" y="321912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27560" y="321912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3045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71708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21912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15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14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314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92280" indent="-2142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1284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1284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1284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Line 62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3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64"/>
          <p:cNvSpPr/>
          <p:nvPr/>
        </p:nvSpPr>
        <p:spPr>
          <a:xfrm>
            <a:off x="2400480" y="6286680"/>
            <a:ext cx="539640" cy="539640"/>
          </a:xfrm>
          <a:prstGeom prst="bevel">
            <a:avLst>
              <a:gd name="adj" fmla="val 1250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65"/>
          <p:cNvSpPr/>
          <p:nvPr/>
        </p:nvSpPr>
        <p:spPr>
          <a:xfrm>
            <a:off x="2527200" y="6276960"/>
            <a:ext cx="27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2b2b2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66"/>
          <p:cNvSpPr/>
          <p:nvPr/>
        </p:nvSpPr>
        <p:spPr>
          <a:xfrm>
            <a:off x="2984400" y="6286680"/>
            <a:ext cx="540000" cy="539640"/>
          </a:xfrm>
          <a:prstGeom prst="bevel">
            <a:avLst>
              <a:gd name="adj" fmla="val 1250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67"/>
          <p:cNvSpPr/>
          <p:nvPr/>
        </p:nvSpPr>
        <p:spPr>
          <a:xfrm>
            <a:off x="3111480" y="6276960"/>
            <a:ext cx="27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2b2b2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68"/>
          <p:cNvSpPr/>
          <p:nvPr/>
        </p:nvSpPr>
        <p:spPr>
          <a:xfrm>
            <a:off x="3568680" y="6286680"/>
            <a:ext cx="539640" cy="539640"/>
          </a:xfrm>
          <a:prstGeom prst="bevel">
            <a:avLst>
              <a:gd name="adj" fmla="val 1250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69"/>
          <p:cNvSpPr/>
          <p:nvPr/>
        </p:nvSpPr>
        <p:spPr>
          <a:xfrm>
            <a:off x="3695760" y="6276960"/>
            <a:ext cx="26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2b2b2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Text Box 70"/>
          <p:cNvSpPr/>
          <p:nvPr/>
        </p:nvSpPr>
        <p:spPr>
          <a:xfrm>
            <a:off x="1523880" y="6337440"/>
            <a:ext cx="83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73"/>
          <p:cNvSpPr/>
          <p:nvPr/>
        </p:nvSpPr>
        <p:spPr>
          <a:xfrm>
            <a:off x="4152960" y="6286680"/>
            <a:ext cx="539640" cy="539640"/>
          </a:xfrm>
          <a:prstGeom prst="bevel">
            <a:avLst>
              <a:gd name="adj" fmla="val 1250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Text Box 74"/>
          <p:cNvSpPr/>
          <p:nvPr/>
        </p:nvSpPr>
        <p:spPr>
          <a:xfrm>
            <a:off x="4280040" y="6276960"/>
            <a:ext cx="26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2b2b2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AutoShape 82"/>
          <p:cNvSpPr/>
          <p:nvPr/>
        </p:nvSpPr>
        <p:spPr>
          <a:xfrm>
            <a:off x="4732200" y="6291360"/>
            <a:ext cx="540000" cy="539640"/>
          </a:xfrm>
          <a:prstGeom prst="bevel">
            <a:avLst>
              <a:gd name="adj" fmla="val 1250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2b2b2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84" descr="C:\WINDOWS\DESKTOP\PHlogoforPresPro.bmp"/>
          <p:cNvPicPr/>
          <p:nvPr/>
        </p:nvPicPr>
        <p:blipFill>
          <a:blip r:embed="rId3"/>
          <a:stretch/>
        </p:blipFill>
        <p:spPr>
          <a:xfrm>
            <a:off x="8210520" y="6259680"/>
            <a:ext cx="933480" cy="60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" name="Object 85"/>
          <p:cNvGraphicFramePr/>
          <p:nvPr/>
        </p:nvGraphicFramePr>
        <p:xfrm>
          <a:off x="8217000" y="6265800"/>
          <a:ext cx="91440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" name="Object 8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17000" y="6265800"/>
                    <a:ext cx="914400" cy="584280"/>
                  </a:xfrm>
                  <a:prstGeom prst="rect">
                    <a:avLst/>
                  </a:prstGeom>
                  <a:ln w="9360">
                    <a:solidFill>
                      <a:srgbClr val="3a066a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" name="Rectangle 86"/>
          <p:cNvSpPr/>
          <p:nvPr/>
        </p:nvSpPr>
        <p:spPr>
          <a:xfrm>
            <a:off x="8215200" y="6267600"/>
            <a:ext cx="898560" cy="569880"/>
          </a:xfrm>
          <a:prstGeom prst="rect">
            <a:avLst/>
          </a:prstGeom>
          <a:noFill/>
          <a:ln w="9360">
            <a:solidFill>
              <a:srgbClr val="3a06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8"/>
          <p:cNvSpPr/>
          <p:nvPr/>
        </p:nvSpPr>
        <p:spPr>
          <a:xfrm>
            <a:off x="3276720" y="0"/>
            <a:ext cx="2552760" cy="90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1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4"/>
          <p:cNvSpPr/>
          <p:nvPr/>
        </p:nvSpPr>
        <p:spPr>
          <a:xfrm>
            <a:off x="3650040" y="517680"/>
            <a:ext cx="18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sentation P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5" descr="C:\WINDOWS\DESKTOP\PHlogoforPresPro.bmp"/>
          <p:cNvPicPr/>
          <p:nvPr/>
        </p:nvPicPr>
        <p:blipFill>
          <a:blip r:embed="rId3"/>
          <a:stretch/>
        </p:blipFill>
        <p:spPr>
          <a:xfrm>
            <a:off x="8210520" y="6259680"/>
            <a:ext cx="933480" cy="60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Object 36"/>
          <p:cNvGraphicFramePr/>
          <p:nvPr/>
        </p:nvGraphicFramePr>
        <p:xfrm>
          <a:off x="8217000" y="6265800"/>
          <a:ext cx="91440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" name="Object 3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17000" y="6265800"/>
                    <a:ext cx="914400" cy="584280"/>
                  </a:xfrm>
                  <a:prstGeom prst="rect">
                    <a:avLst/>
                  </a:prstGeom>
                  <a:ln w="9360">
                    <a:solidFill>
                      <a:srgbClr val="3a066a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0" name="Rectangle 37"/>
          <p:cNvSpPr/>
          <p:nvPr/>
        </p:nvSpPr>
        <p:spPr>
          <a:xfrm>
            <a:off x="8215200" y="6267600"/>
            <a:ext cx="898560" cy="569880"/>
          </a:xfrm>
          <a:prstGeom prst="rect">
            <a:avLst/>
          </a:prstGeom>
          <a:noFill/>
          <a:ln w="9360">
            <a:solidFill>
              <a:srgbClr val="3a06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15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14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314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92280" indent="-2142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1284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1284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1284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19.xml"/><Relationship Id="rId5" Type="http://schemas.openxmlformats.org/officeDocument/2006/relationships/image" Target="../media/image1.jpeg"/><Relationship Id="rId6" Type="http://schemas.openxmlformats.org/officeDocument/2006/relationships/slide" Target="slide11.xml"/><Relationship Id="rId7" Type="http://schemas.openxmlformats.org/officeDocument/2006/relationships/slide" Target="slide11.xml"/><Relationship Id="rId8" Type="http://schemas.openxmlformats.org/officeDocument/2006/relationships/image" Target="../media/image1.jpeg"/><Relationship Id="rId9" Type="http://schemas.openxmlformats.org/officeDocument/2006/relationships/slide" Target="slide14.xml"/><Relationship Id="rId10" Type="http://schemas.openxmlformats.org/officeDocument/2006/relationships/slide" Target="slide14.xml"/><Relationship Id="rId11" Type="http://schemas.openxmlformats.org/officeDocument/2006/relationships/image" Target="../media/image1.jpeg"/><Relationship Id="rId12" Type="http://schemas.openxmlformats.org/officeDocument/2006/relationships/slide" Target="slide19.xml"/><Relationship Id="rId13" Type="http://schemas.openxmlformats.org/officeDocument/2006/relationships/slide" Target="slide23.xml"/><Relationship Id="rId14" Type="http://schemas.openxmlformats.org/officeDocument/2006/relationships/image" Target="../media/image1.jpeg"/><Relationship Id="rId15" Type="http://schemas.openxmlformats.org/officeDocument/2006/relationships/slide" Target="slide19.xml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19.xml"/><Relationship Id="rId4" Type="http://schemas.openxmlformats.org/officeDocument/2006/relationships/image" Target="../media/image1.jpeg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image" Target="../media/image1.jpeg"/><Relationship Id="rId8" Type="http://schemas.openxmlformats.org/officeDocument/2006/relationships/slide" Target="slide19.xml"/><Relationship Id="rId9" Type="http://schemas.openxmlformats.org/officeDocument/2006/relationships/slide" Target="slide19.xml"/><Relationship Id="rId10" Type="http://schemas.openxmlformats.org/officeDocument/2006/relationships/image" Target="../media/image1.jpeg"/><Relationship Id="rId11" Type="http://schemas.openxmlformats.org/officeDocument/2006/relationships/slide" Target="slide3.xml"/><Relationship Id="rId12" Type="http://schemas.openxmlformats.org/officeDocument/2006/relationships/slide" Target="slide19.xml"/><Relationship Id="rId13" Type="http://schemas.openxmlformats.org/officeDocument/2006/relationships/image" Target="../media/image1.jpeg"/><Relationship Id="rId14" Type="http://schemas.openxmlformats.org/officeDocument/2006/relationships/slide" Target="slide19.xml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image" Target="../media/image1.jpeg"/><Relationship Id="rId8" Type="http://schemas.openxmlformats.org/officeDocument/2006/relationships/slide" Target="slide19.xml"/><Relationship Id="rId9" Type="http://schemas.openxmlformats.org/officeDocument/2006/relationships/slide" Target="slide19.xml"/><Relationship Id="rId10" Type="http://schemas.openxmlformats.org/officeDocument/2006/relationships/image" Target="../media/image1.jpeg"/><Relationship Id="rId11" Type="http://schemas.openxmlformats.org/officeDocument/2006/relationships/slide" Target="slide3.xml"/><Relationship Id="rId12" Type="http://schemas.openxmlformats.org/officeDocument/2006/relationships/slide" Target="slide23.xml"/><Relationship Id="rId13" Type="http://schemas.openxmlformats.org/officeDocument/2006/relationships/image" Target="../media/image1.jpeg"/><Relationship Id="rId14" Type="http://schemas.openxmlformats.org/officeDocument/2006/relationships/slide" Target="slide19.xml"/><Relationship Id="rId15" Type="http://schemas.openxmlformats.org/officeDocument/2006/relationships/image" Target="../media/image6.jpeg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image" Target="../media/image1.jpeg"/><Relationship Id="rId8" Type="http://schemas.openxmlformats.org/officeDocument/2006/relationships/slide" Target="slide19.xml"/><Relationship Id="rId9" Type="http://schemas.openxmlformats.org/officeDocument/2006/relationships/slide" Target="slide19.xml"/><Relationship Id="rId10" Type="http://schemas.openxmlformats.org/officeDocument/2006/relationships/image" Target="../media/image1.jpeg"/><Relationship Id="rId11" Type="http://schemas.openxmlformats.org/officeDocument/2006/relationships/slide" Target="slide3.xml"/><Relationship Id="rId12" Type="http://schemas.openxmlformats.org/officeDocument/2006/relationships/slide" Target="slide23.xml"/><Relationship Id="rId13" Type="http://schemas.openxmlformats.org/officeDocument/2006/relationships/image" Target="../media/image1.jpeg"/><Relationship Id="rId14" Type="http://schemas.openxmlformats.org/officeDocument/2006/relationships/slide" Target="slide19.xml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image" Target="../media/image1.jpeg"/><Relationship Id="rId8" Type="http://schemas.openxmlformats.org/officeDocument/2006/relationships/slide" Target="slide19.xml"/><Relationship Id="rId9" Type="http://schemas.openxmlformats.org/officeDocument/2006/relationships/slide" Target="slide19.xml"/><Relationship Id="rId10" Type="http://schemas.openxmlformats.org/officeDocument/2006/relationships/image" Target="../media/image1.jpeg"/><Relationship Id="rId11" Type="http://schemas.openxmlformats.org/officeDocument/2006/relationships/slide" Target="slide3.xml"/><Relationship Id="rId12" Type="http://schemas.openxmlformats.org/officeDocument/2006/relationships/slide" Target="slide23.xml"/><Relationship Id="rId13" Type="http://schemas.openxmlformats.org/officeDocument/2006/relationships/image" Target="../media/image1.jpeg"/><Relationship Id="rId14" Type="http://schemas.openxmlformats.org/officeDocument/2006/relationships/slide" Target="slide19.xml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image" Target="../media/image1.jpeg"/><Relationship Id="rId8" Type="http://schemas.openxmlformats.org/officeDocument/2006/relationships/slide" Target="slide19.xml"/><Relationship Id="rId9" Type="http://schemas.openxmlformats.org/officeDocument/2006/relationships/slide" Target="slide19.xml"/><Relationship Id="rId10" Type="http://schemas.openxmlformats.org/officeDocument/2006/relationships/image" Target="../media/image1.jpeg"/><Relationship Id="rId11" Type="http://schemas.openxmlformats.org/officeDocument/2006/relationships/slide" Target="slide3.xml"/><Relationship Id="rId12" Type="http://schemas.openxmlformats.org/officeDocument/2006/relationships/slide" Target="slide23.xml"/><Relationship Id="rId13" Type="http://schemas.openxmlformats.org/officeDocument/2006/relationships/image" Target="../media/image1.jpeg"/><Relationship Id="rId14" Type="http://schemas.openxmlformats.org/officeDocument/2006/relationships/slide" Target="slide3.xml"/><Relationship Id="rId15" Type="http://schemas.openxmlformats.org/officeDocument/2006/relationships/image" Target="../media/image7.jpeg"/><Relationship Id="rId1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phschool.com/atschool/Magruders/2001/Student_Area/MAG_SC13_ACT_index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3.xml"/><Relationship Id="rId5" Type="http://schemas.openxmlformats.org/officeDocument/2006/relationships/image" Target="../media/image1.jpeg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image" Target="../media/image1.jpeg"/><Relationship Id="rId9" Type="http://schemas.openxmlformats.org/officeDocument/2006/relationships/slide" Target="slide19.xml"/><Relationship Id="rId10" Type="http://schemas.openxmlformats.org/officeDocument/2006/relationships/slide" Target="slide19.xml"/><Relationship Id="rId11" Type="http://schemas.openxmlformats.org/officeDocument/2006/relationships/image" Target="../media/image1.jpeg"/><Relationship Id="rId12" Type="http://schemas.openxmlformats.org/officeDocument/2006/relationships/slide" Target="slide3.xml"/><Relationship Id="rId13" Type="http://schemas.openxmlformats.org/officeDocument/2006/relationships/slide" Target="slide23.xml"/><Relationship Id="rId14" Type="http://schemas.openxmlformats.org/officeDocument/2006/relationships/image" Target="../media/image1.jpeg"/><Relationship Id="rId15" Type="http://schemas.openxmlformats.org/officeDocument/2006/relationships/slide" Target="slide19.xml"/><Relationship Id="rId1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slide" Target="slide6.xml"/><Relationship Id="rId12" Type="http://schemas.openxmlformats.org/officeDocument/2006/relationships/slide" Target="slide3.xml"/><Relationship Id="rId13" Type="http://schemas.openxmlformats.org/officeDocument/2006/relationships/slide" Target="slide3.xml"/><Relationship Id="rId14" Type="http://schemas.openxmlformats.org/officeDocument/2006/relationships/slide" Target="slide3.xml"/><Relationship Id="rId15" Type="http://schemas.openxmlformats.org/officeDocument/2006/relationships/slide" Target="slide11.xml"/><Relationship Id="rId16" Type="http://schemas.openxmlformats.org/officeDocument/2006/relationships/image" Target="../media/image1.jpeg"/><Relationship Id="rId17" Type="http://schemas.openxmlformats.org/officeDocument/2006/relationships/slide" Target="slide11.xml"/><Relationship Id="rId18" Type="http://schemas.openxmlformats.org/officeDocument/2006/relationships/slide" Target="slide11.xml"/><Relationship Id="rId19" Type="http://schemas.openxmlformats.org/officeDocument/2006/relationships/image" Target="../media/image1.jpeg"/><Relationship Id="rId20" Type="http://schemas.openxmlformats.org/officeDocument/2006/relationships/slide" Target="slide14.xml"/><Relationship Id="rId21" Type="http://schemas.openxmlformats.org/officeDocument/2006/relationships/slide" Target="slide14.xml"/><Relationship Id="rId22" Type="http://schemas.openxmlformats.org/officeDocument/2006/relationships/image" Target="../media/image1.jpeg"/><Relationship Id="rId23" Type="http://schemas.openxmlformats.org/officeDocument/2006/relationships/slide" Target="slide19.xml"/><Relationship Id="rId24" Type="http://schemas.openxmlformats.org/officeDocument/2006/relationships/slide" Target="slide19.xml"/><Relationship Id="rId25" Type="http://schemas.openxmlformats.org/officeDocument/2006/relationships/image" Target="../media/image1.jpeg"/><Relationship Id="rId26" Type="http://schemas.openxmlformats.org/officeDocument/2006/relationships/slide" Target="slide3.xml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image" Target="../media/image1.jpeg"/><Relationship Id="rId8" Type="http://schemas.openxmlformats.org/officeDocument/2006/relationships/slide" Target="slide14.xml"/><Relationship Id="rId9" Type="http://schemas.openxmlformats.org/officeDocument/2006/relationships/slide" Target="slide14.xml"/><Relationship Id="rId10" Type="http://schemas.openxmlformats.org/officeDocument/2006/relationships/image" Target="../media/image1.jpeg"/><Relationship Id="rId11" Type="http://schemas.openxmlformats.org/officeDocument/2006/relationships/slide" Target="slide19.xm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slide" Target="slide6.xml"/><Relationship Id="rId12" Type="http://schemas.openxmlformats.org/officeDocument/2006/relationships/slide" Target="slide6.xml"/><Relationship Id="rId13" Type="http://schemas.openxmlformats.org/officeDocument/2006/relationships/slide" Target="slide6.xml"/><Relationship Id="rId14" Type="http://schemas.openxmlformats.org/officeDocument/2006/relationships/slide" Target="slide3.xml"/><Relationship Id="rId15" Type="http://schemas.openxmlformats.org/officeDocument/2006/relationships/slide" Target="slide3.xml"/><Relationship Id="rId16" Type="http://schemas.openxmlformats.org/officeDocument/2006/relationships/slide" Target="slide3.xml"/><Relationship Id="rId17" Type="http://schemas.openxmlformats.org/officeDocument/2006/relationships/slide" Target="slide23.xml"/><Relationship Id="rId18" Type="http://schemas.openxmlformats.org/officeDocument/2006/relationships/slide" Target="slide23.xml"/><Relationship Id="rId19" Type="http://schemas.openxmlformats.org/officeDocument/2006/relationships/slide" Target="slide11.xml"/><Relationship Id="rId20" Type="http://schemas.openxmlformats.org/officeDocument/2006/relationships/image" Target="../media/image1.jpeg"/><Relationship Id="rId21" Type="http://schemas.openxmlformats.org/officeDocument/2006/relationships/slide" Target="slide11.xml"/><Relationship Id="rId22" Type="http://schemas.openxmlformats.org/officeDocument/2006/relationships/slide" Target="slide11.xml"/><Relationship Id="rId23" Type="http://schemas.openxmlformats.org/officeDocument/2006/relationships/image" Target="../media/image1.jpeg"/><Relationship Id="rId24" Type="http://schemas.openxmlformats.org/officeDocument/2006/relationships/slide" Target="slide14.xml"/><Relationship Id="rId25" Type="http://schemas.openxmlformats.org/officeDocument/2006/relationships/slide" Target="slide14.xml"/><Relationship Id="rId26" Type="http://schemas.openxmlformats.org/officeDocument/2006/relationships/image" Target="../media/image1.jpeg"/><Relationship Id="rId27" Type="http://schemas.openxmlformats.org/officeDocument/2006/relationships/slide" Target="slide19.xml"/><Relationship Id="rId28" Type="http://schemas.openxmlformats.org/officeDocument/2006/relationships/slide" Target="slide19.xml"/><Relationship Id="rId29" Type="http://schemas.openxmlformats.org/officeDocument/2006/relationships/image" Target="../media/image1.jpeg"/><Relationship Id="rId30" Type="http://schemas.openxmlformats.org/officeDocument/2006/relationships/slide" Target="slide3.xml"/><Relationship Id="rId31" Type="http://schemas.openxmlformats.org/officeDocument/2006/relationships/slide" Target="slide3.xml"/><Relationship Id="rId32" Type="http://schemas.openxmlformats.org/officeDocument/2006/relationships/image" Target="../media/image1.jpeg"/><Relationship Id="rId33" Type="http://schemas.openxmlformats.org/officeDocument/2006/relationships/slide" Target="slide23.xml"/><Relationship Id="rId34" Type="http://schemas.openxmlformats.org/officeDocument/2006/relationships/slideLayout" Target="../slideLayouts/slideLayout1.xml"/><Relationship Id="rId3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19.xml"/><Relationship Id="rId4" Type="http://schemas.openxmlformats.org/officeDocument/2006/relationships/image" Target="../media/image1.jpeg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image" Target="../media/image1.jpeg"/><Relationship Id="rId8" Type="http://schemas.openxmlformats.org/officeDocument/2006/relationships/slide" Target="slide14.xml"/><Relationship Id="rId9" Type="http://schemas.openxmlformats.org/officeDocument/2006/relationships/slide" Target="slide14.xml"/><Relationship Id="rId10" Type="http://schemas.openxmlformats.org/officeDocument/2006/relationships/image" Target="../media/image1.jpeg"/><Relationship Id="rId11" Type="http://schemas.openxmlformats.org/officeDocument/2006/relationships/slide" Target="slide19.xml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19.xml"/><Relationship Id="rId4" Type="http://schemas.openxmlformats.org/officeDocument/2006/relationships/image" Target="../media/image1.jpeg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image" Target="../media/image1.jpeg"/><Relationship Id="rId8" Type="http://schemas.openxmlformats.org/officeDocument/2006/relationships/slide" Target="slide14.xml"/><Relationship Id="rId9" Type="http://schemas.openxmlformats.org/officeDocument/2006/relationships/slide" Target="slide14.xml"/><Relationship Id="rId10" Type="http://schemas.openxmlformats.org/officeDocument/2006/relationships/image" Target="../media/image1.jpeg"/><Relationship Id="rId11" Type="http://schemas.openxmlformats.org/officeDocument/2006/relationships/slide" Target="slide19.xml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19.xml"/><Relationship Id="rId5" Type="http://schemas.openxmlformats.org/officeDocument/2006/relationships/image" Target="../media/image1.jpeg"/><Relationship Id="rId6" Type="http://schemas.openxmlformats.org/officeDocument/2006/relationships/slide" Target="slide11.xml"/><Relationship Id="rId7" Type="http://schemas.openxmlformats.org/officeDocument/2006/relationships/slide" Target="slide11.xml"/><Relationship Id="rId8" Type="http://schemas.openxmlformats.org/officeDocument/2006/relationships/image" Target="../media/image1.jpeg"/><Relationship Id="rId9" Type="http://schemas.openxmlformats.org/officeDocument/2006/relationships/slide" Target="slide14.xml"/><Relationship Id="rId10" Type="http://schemas.openxmlformats.org/officeDocument/2006/relationships/slide" Target="slide14.xml"/><Relationship Id="rId11" Type="http://schemas.openxmlformats.org/officeDocument/2006/relationships/image" Target="../media/image1.jpeg"/><Relationship Id="rId12" Type="http://schemas.openxmlformats.org/officeDocument/2006/relationships/slide" Target="slide19.xml"/><Relationship Id="rId1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19.xml"/><Relationship Id="rId4" Type="http://schemas.openxmlformats.org/officeDocument/2006/relationships/image" Target="../media/image1.jpeg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image" Target="../media/image1.jpeg"/><Relationship Id="rId8" Type="http://schemas.openxmlformats.org/officeDocument/2006/relationships/slide" Target="slide19.xml"/><Relationship Id="rId9" Type="http://schemas.openxmlformats.org/officeDocument/2006/relationships/slide" Target="slide19.xml"/><Relationship Id="rId10" Type="http://schemas.openxmlformats.org/officeDocument/2006/relationships/image" Target="../media/image1.jpeg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image" Target="../media/image1.jpeg"/><Relationship Id="rId8" Type="http://schemas.openxmlformats.org/officeDocument/2006/relationships/slide" Target="slide19.xml"/><Relationship Id="rId9" Type="http://schemas.openxmlformats.org/officeDocument/2006/relationships/slide" Target="slide19.xml"/><Relationship Id="rId10" Type="http://schemas.openxmlformats.org/officeDocument/2006/relationships/image" Target="../media/image1.jpeg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image" Target="../media/image1.jpeg"/><Relationship Id="rId8" Type="http://schemas.openxmlformats.org/officeDocument/2006/relationships/slide" Target="slide19.xml"/><Relationship Id="rId9" Type="http://schemas.openxmlformats.org/officeDocument/2006/relationships/slide" Target="slide19.xml"/><Relationship Id="rId10" Type="http://schemas.openxmlformats.org/officeDocument/2006/relationships/image" Target="../media/image1.jpeg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image" Target="../media/image1.jpeg"/><Relationship Id="rId8" Type="http://schemas.openxmlformats.org/officeDocument/2006/relationships/slide" Target="slide19.xml"/><Relationship Id="rId9" Type="http://schemas.openxmlformats.org/officeDocument/2006/relationships/slide" Target="slide19.xml"/><Relationship Id="rId10" Type="http://schemas.openxmlformats.org/officeDocument/2006/relationships/image" Target="../media/image1.jpeg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image" Target="../media/image1.jpeg"/><Relationship Id="rId8" Type="http://schemas.openxmlformats.org/officeDocument/2006/relationships/slide" Target="slide14.xml"/><Relationship Id="rId9" Type="http://schemas.openxmlformats.org/officeDocument/2006/relationships/slide" Target="slide14.xml"/><Relationship Id="rId10" Type="http://schemas.openxmlformats.org/officeDocument/2006/relationships/image" Target="../media/image1.jpeg"/><Relationship Id="rId11" Type="http://schemas.openxmlformats.org/officeDocument/2006/relationships/slide" Target="slide19.xml"/><Relationship Id="rId12" Type="http://schemas.openxmlformats.org/officeDocument/2006/relationships/slide" Target="slide23.xml"/><Relationship Id="rId13" Type="http://schemas.openxmlformats.org/officeDocument/2006/relationships/image" Target="../media/image1.jpeg"/><Relationship Id="rId14" Type="http://schemas.openxmlformats.org/officeDocument/2006/relationships/slide" Target="slide3.xml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image" Target="../media/image1.jpeg"/><Relationship Id="rId8" Type="http://schemas.openxmlformats.org/officeDocument/2006/relationships/slide" Target="slide19.xml"/><Relationship Id="rId9" Type="http://schemas.openxmlformats.org/officeDocument/2006/relationships/slide" Target="slide19.xml"/><Relationship Id="rId10" Type="http://schemas.openxmlformats.org/officeDocument/2006/relationships/image" Target="../media/image1.jpeg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phschool.com/atschool/Magruders/2001/Student_Area/MAG_SC14_ACT_index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3.xml"/><Relationship Id="rId5" Type="http://schemas.openxmlformats.org/officeDocument/2006/relationships/image" Target="../media/image1.jpeg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image" Target="../media/image1.jpeg"/><Relationship Id="rId9" Type="http://schemas.openxmlformats.org/officeDocument/2006/relationships/slide" Target="slide19.xml"/><Relationship Id="rId10" Type="http://schemas.openxmlformats.org/officeDocument/2006/relationships/slide" Target="slide19.xml"/><Relationship Id="rId11" Type="http://schemas.openxmlformats.org/officeDocument/2006/relationships/image" Target="../media/image1.jpeg"/><Relationship Id="rId12" Type="http://schemas.openxmlformats.org/officeDocument/2006/relationships/slide" Target="slide3.xml"/><Relationship Id="rId1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image" Target="../media/image1.jpeg"/><Relationship Id="rId8" Type="http://schemas.openxmlformats.org/officeDocument/2006/relationships/slide" Target="slide19.xml"/><Relationship Id="rId9" Type="http://schemas.openxmlformats.org/officeDocument/2006/relationships/slide" Target="slide19.xml"/><Relationship Id="rId10" Type="http://schemas.openxmlformats.org/officeDocument/2006/relationships/image" Target="../media/image1.jpeg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image" Target="../media/image1.jpeg"/><Relationship Id="rId8" Type="http://schemas.openxmlformats.org/officeDocument/2006/relationships/slide" Target="slide19.xml"/><Relationship Id="rId9" Type="http://schemas.openxmlformats.org/officeDocument/2006/relationships/slide" Target="slide19.xml"/><Relationship Id="rId10" Type="http://schemas.openxmlformats.org/officeDocument/2006/relationships/image" Target="../media/image1.jpeg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image" Target="../media/image1.jpeg"/><Relationship Id="rId8" Type="http://schemas.openxmlformats.org/officeDocument/2006/relationships/slide" Target="slide19.xml"/><Relationship Id="rId9" Type="http://schemas.openxmlformats.org/officeDocument/2006/relationships/slide" Target="slide19.xml"/><Relationship Id="rId10" Type="http://schemas.openxmlformats.org/officeDocument/2006/relationships/image" Target="../media/image1.jpeg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image" Target="../media/image1.jpeg"/><Relationship Id="rId8" Type="http://schemas.openxmlformats.org/officeDocument/2006/relationships/slide" Target="slide19.xml"/><Relationship Id="rId9" Type="http://schemas.openxmlformats.org/officeDocument/2006/relationships/slide" Target="slide19.xml"/><Relationship Id="rId10" Type="http://schemas.openxmlformats.org/officeDocument/2006/relationships/image" Target="../media/image1.jpeg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image" Target="../media/image1.jpeg"/><Relationship Id="rId8" Type="http://schemas.openxmlformats.org/officeDocument/2006/relationships/slide" Target="slide19.xml"/><Relationship Id="rId9" Type="http://schemas.openxmlformats.org/officeDocument/2006/relationships/slide" Target="slide19.xml"/><Relationship Id="rId10" Type="http://schemas.openxmlformats.org/officeDocument/2006/relationships/image" Target="../media/image1.jpeg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phschool.com/atschool/Magruders/2001/Student_Area/MAG_SC14_ACT_index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3.xml"/><Relationship Id="rId5" Type="http://schemas.openxmlformats.org/officeDocument/2006/relationships/image" Target="../media/image1.jpeg"/><Relationship Id="rId6" Type="http://schemas.openxmlformats.org/officeDocument/2006/relationships/slide" Target="slide11.xml"/><Relationship Id="rId7" Type="http://schemas.openxmlformats.org/officeDocument/2006/relationships/slide" Target="slide11.xml"/><Relationship Id="rId8" Type="http://schemas.openxmlformats.org/officeDocument/2006/relationships/image" Target="../media/image1.jpeg"/><Relationship Id="rId9" Type="http://schemas.openxmlformats.org/officeDocument/2006/relationships/slide" Target="slide19.xml"/><Relationship Id="rId10" Type="http://schemas.openxmlformats.org/officeDocument/2006/relationships/slide" Target="slide19.xml"/><Relationship Id="rId11" Type="http://schemas.openxmlformats.org/officeDocument/2006/relationships/image" Target="../media/image1.jpeg"/><Relationship Id="rId12" Type="http://schemas.openxmlformats.org/officeDocument/2006/relationships/slide" Target="slide3.xml"/><Relationship Id="rId1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image" Target="../media/image1.jpeg"/><Relationship Id="rId8" Type="http://schemas.openxmlformats.org/officeDocument/2006/relationships/slide" Target="slide14.xml"/><Relationship Id="rId9" Type="http://schemas.openxmlformats.org/officeDocument/2006/relationships/slide" Target="slide14.xml"/><Relationship Id="rId10" Type="http://schemas.openxmlformats.org/officeDocument/2006/relationships/image" Target="../media/image1.jpeg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image" Target="../media/image1.jpeg"/><Relationship Id="rId8" Type="http://schemas.openxmlformats.org/officeDocument/2006/relationships/slide" Target="slide14.xml"/><Relationship Id="rId9" Type="http://schemas.openxmlformats.org/officeDocument/2006/relationships/slide" Target="slide14.xml"/><Relationship Id="rId10" Type="http://schemas.openxmlformats.org/officeDocument/2006/relationships/image" Target="../media/image1.jpeg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jpeg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image" Target="../media/image1.jpeg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image" Target="../media/image1.jpeg"/><Relationship Id="rId9" Type="http://schemas.openxmlformats.org/officeDocument/2006/relationships/slide" Target="slide3.xml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19.xml"/><Relationship Id="rId4" Type="http://schemas.openxmlformats.org/officeDocument/2006/relationships/image" Target="../media/image1.jpeg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image" Target="../media/image1.jpeg"/><Relationship Id="rId8" Type="http://schemas.openxmlformats.org/officeDocument/2006/relationships/slide" Target="slide14.xml"/><Relationship Id="rId9" Type="http://schemas.openxmlformats.org/officeDocument/2006/relationships/slide" Target="slide14.xml"/><Relationship Id="rId10" Type="http://schemas.openxmlformats.org/officeDocument/2006/relationships/image" Target="../media/image1.jpeg"/><Relationship Id="rId11" Type="http://schemas.openxmlformats.org/officeDocument/2006/relationships/slide" Target="slide19.xml"/><Relationship Id="rId12" Type="http://schemas.openxmlformats.org/officeDocument/2006/relationships/slide" Target="slide14.xml"/><Relationship Id="rId13" Type="http://schemas.openxmlformats.org/officeDocument/2006/relationships/image" Target="../media/image1.jpeg"/><Relationship Id="rId14" Type="http://schemas.openxmlformats.org/officeDocument/2006/relationships/slide" Target="slide19.xm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19.xml"/><Relationship Id="rId4" Type="http://schemas.openxmlformats.org/officeDocument/2006/relationships/image" Target="../media/image1.jpeg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image" Target="../media/image1.jpeg"/><Relationship Id="rId8" Type="http://schemas.openxmlformats.org/officeDocument/2006/relationships/slide" Target="slide14.xml"/><Relationship Id="rId9" Type="http://schemas.openxmlformats.org/officeDocument/2006/relationships/slide" Target="slide14.xml"/><Relationship Id="rId10" Type="http://schemas.openxmlformats.org/officeDocument/2006/relationships/image" Target="../media/image1.jpeg"/><Relationship Id="rId11" Type="http://schemas.openxmlformats.org/officeDocument/2006/relationships/slide" Target="slide19.xml"/><Relationship Id="rId12" Type="http://schemas.openxmlformats.org/officeDocument/2006/relationships/slide" Target="slide23.xml"/><Relationship Id="rId13" Type="http://schemas.openxmlformats.org/officeDocument/2006/relationships/image" Target="../media/image1.jpeg"/><Relationship Id="rId14" Type="http://schemas.openxmlformats.org/officeDocument/2006/relationships/slide" Target="slide19.xml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19.xml"/><Relationship Id="rId4" Type="http://schemas.openxmlformats.org/officeDocument/2006/relationships/image" Target="../media/image1.jpeg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image" Target="../media/image1.jpeg"/><Relationship Id="rId8" Type="http://schemas.openxmlformats.org/officeDocument/2006/relationships/slide" Target="slide14.xml"/><Relationship Id="rId9" Type="http://schemas.openxmlformats.org/officeDocument/2006/relationships/slide" Target="slide14.xml"/><Relationship Id="rId10" Type="http://schemas.openxmlformats.org/officeDocument/2006/relationships/image" Target="../media/image1.jpeg"/><Relationship Id="rId11" Type="http://schemas.openxmlformats.org/officeDocument/2006/relationships/slide" Target="slide19.xml"/><Relationship Id="rId12" Type="http://schemas.openxmlformats.org/officeDocument/2006/relationships/slide" Target="slide23.xml"/><Relationship Id="rId13" Type="http://schemas.openxmlformats.org/officeDocument/2006/relationships/image" Target="../media/image1.jpeg"/><Relationship Id="rId14" Type="http://schemas.openxmlformats.org/officeDocument/2006/relationships/slide" Target="slide19.xml"/><Relationship Id="rId15" Type="http://schemas.openxmlformats.org/officeDocument/2006/relationships/package" Target="../embeddings/oleObject1.docx"/><Relationship Id="rId16" Type="http://schemas.openxmlformats.org/officeDocument/2006/relationships/image" Target="../media/image5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.jpeg"/><Relationship Id="rId3" Type="http://schemas.openxmlformats.org/officeDocument/2006/relationships/slide" Target="slide23.xml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" Target="slide19.xml"/><Relationship Id="rId7" Type="http://schemas.openxmlformats.org/officeDocument/2006/relationships/image" Target="../media/image1.jpeg"/><Relationship Id="rId8" Type="http://schemas.openxmlformats.org/officeDocument/2006/relationships/slide" Target="slide11.xml"/><Relationship Id="rId9" Type="http://schemas.openxmlformats.org/officeDocument/2006/relationships/slide" Target="slide11.xml"/><Relationship Id="rId10" Type="http://schemas.openxmlformats.org/officeDocument/2006/relationships/image" Target="../media/image1.jpeg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image" Target="../media/image1.jpeg"/><Relationship Id="rId14" Type="http://schemas.openxmlformats.org/officeDocument/2006/relationships/slide" Target="slide19.xml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.jpeg"/><Relationship Id="rId3" Type="http://schemas.openxmlformats.org/officeDocument/2006/relationships/slide" Target="slide23.xml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" Target="slide19.xml"/><Relationship Id="rId7" Type="http://schemas.openxmlformats.org/officeDocument/2006/relationships/image" Target="../media/image1.jpeg"/><Relationship Id="rId8" Type="http://schemas.openxmlformats.org/officeDocument/2006/relationships/slide" Target="slide11.xml"/><Relationship Id="rId9" Type="http://schemas.openxmlformats.org/officeDocument/2006/relationships/slide" Target="slide11.xml"/><Relationship Id="rId10" Type="http://schemas.openxmlformats.org/officeDocument/2006/relationships/image" Target="../media/image1.jpeg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image" Target="../media/image1.jpeg"/><Relationship Id="rId14" Type="http://schemas.openxmlformats.org/officeDocument/2006/relationships/slide" Target="slide19.xml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355680" y="641988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6600"/>
                </a:solidFill>
                <a:latin typeface="Arial"/>
              </a:rPr>
              <a:t>© 2001 by Prentice Hall,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219320"/>
            <a:ext cx="754380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Magruder’s</a:t>
            </a:r>
            <a:br>
              <a:rPr sz="4800"/>
            </a:b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American Government</a:t>
            </a: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37720" y="30481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C H A P T E R  13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Presid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C H A P T E R  14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Presidency in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ection 1 Review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As commander in chief, the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is the leader of all the nation’s armed for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initiates legisl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is the director of the govern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represents the citizens of the United States abro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In order to become President, a citizen needs to be at le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25 years ol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35 years ol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45 years ol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30 years old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5711040" y="640080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3, Sec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228600" y="571500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t to connect to the Magruder’s link for this section? 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" action="ppaction://hlinksldjump"/>
              </a:rPr>
              <a:t>Click Her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1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2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3">
            <a:hlinkClick r:id="rId4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4">
            <a:hlinkClick r:id="rId6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5">
            <a:hlinkClick r:id="rId7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>
            <a:hlinkClick r:id="rId9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7">
            <a:hlinkClick r:id="rId10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8">
            <a:hlinkClick r:id="rId12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9">
            <a:hlinkClick r:id="rId13" action="ppaction://hlinksldjump"/>
          </p:cNvPr>
          <p:cNvSpPr/>
          <p:nvPr/>
        </p:nvSpPr>
        <p:spPr>
          <a:xfrm>
            <a:off x="4735440" y="629748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0">
            <a:hlinkClick r:id="rId15" action="ppaction://hlinksldjump"/>
          </p:cNvPr>
          <p:cNvSpPr/>
          <p:nvPr/>
        </p:nvSpPr>
        <p:spPr>
          <a:xfrm>
            <a:off x="4836960" y="630072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6600"/>
                </a:solidFill>
                <a:latin typeface="Arial"/>
              </a:rPr>
              <a:t>S E C T I O N  2</a:t>
            </a:r>
            <a:br>
              <a:rPr sz="1200"/>
            </a:b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Presidential Succession and the Vice Presidency</a:t>
            </a:r>
            <a:endParaRPr b="1" lang="en-US" sz="3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9920" y="1008000"/>
            <a:ext cx="86108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lnSpc>
                <a:spcPct val="110000"/>
              </a:lnSpc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e Constitution provide for presidential succe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10000"/>
              </a:lnSpc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constitutional provisions for presidential disa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10000"/>
              </a:lnSpc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role of the Vice Presid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5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3, Sec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31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2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41">
            <a:hlinkClick r:id="rId3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2">
            <a:hlinkClick r:id="rId5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43">
            <a:hlinkClick r:id="rId6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4">
            <a:hlinkClick r:id="rId8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45">
            <a:hlinkClick r:id="rId9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6">
            <a:hlinkClick r:id="rId11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47">
            <a:hlinkClick r:id="rId12" action="ppaction://hlinksldjump"/>
          </p:cNvPr>
          <p:cNvSpPr/>
          <p:nvPr/>
        </p:nvSpPr>
        <p:spPr>
          <a:xfrm>
            <a:off x="4741920" y="629748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8">
            <a:hlinkClick r:id="rId14" action="ppaction://hlinksldjump"/>
          </p:cNvPr>
          <p:cNvSpPr/>
          <p:nvPr/>
        </p:nvSpPr>
        <p:spPr>
          <a:xfrm>
            <a:off x="4843440" y="630072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6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1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8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3, Sec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3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4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5">
            <a:hlinkClick r:id="rId3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6">
            <a:hlinkClick r:id="rId5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7">
            <a:hlinkClick r:id="rId6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8">
            <a:hlinkClick r:id="rId8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9">
            <a:hlinkClick r:id="rId9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0">
            <a:hlinkClick r:id="rId11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1">
            <a:hlinkClick r:id="rId12" action="ppaction://hlinksldjump"/>
          </p:cNvPr>
          <p:cNvSpPr/>
          <p:nvPr/>
        </p:nvSpPr>
        <p:spPr>
          <a:xfrm>
            <a:off x="4741920" y="629748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2">
            <a:hlinkClick r:id="rId14" action="ppaction://hlinksldjump"/>
          </p:cNvPr>
          <p:cNvSpPr/>
          <p:nvPr/>
        </p:nvSpPr>
        <p:spPr>
          <a:xfrm>
            <a:off x="4843440" y="630072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The Constitution and Successio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228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9320" indent="-31932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000"/>
                </a:solidFill>
                <a:latin typeface="Arial"/>
              </a:rPr>
              <a:t>Presidential succession</a:t>
            </a:r>
            <a:r>
              <a:rPr b="0" lang="en-US" sz="22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s the plan by which a presidential vacancy is fill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9320" indent="-31932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25th Amendment, ratified in 1967, made it clear that the Vice President will become President if the President is removed from offi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9320" indent="-31932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ffc000"/>
                </a:solidFill>
                <a:latin typeface="Arial"/>
              </a:rPr>
              <a:t>Presidential Succession Act of 1947</a:t>
            </a:r>
            <a:r>
              <a:rPr b="0" lang="en-US" sz="22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t the order of succession following the Vice Presid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8" descr="_x0014_MAG01se1302a5087.jpg                                           00000179_x000b_PenyackJ HD                    B33A4082:"/>
          <p:cNvPicPr/>
          <p:nvPr/>
        </p:nvPicPr>
        <p:blipFill>
          <a:blip r:embed="rId15"/>
          <a:stretch/>
        </p:blipFill>
        <p:spPr>
          <a:xfrm>
            <a:off x="5211720" y="952560"/>
            <a:ext cx="3479760" cy="5095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f the President is sick?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88720" indent="-28872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7080" indent="-1818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isenhower: suffered heart attack in 1955, ileitis in 1956, and mild stroke in 195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77080" indent="-1818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mes Garfield: lingered for 80 days before he died of an assassin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 bullet in 188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77080" indent="-1818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odrow Wilson who suffered a stoke in 1919 and was invalid for his second ter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77080" indent="-1818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nal Reagan who was gravely wounded in an assassination attempt in 198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4588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idential Disability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3, Sec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60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61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62">
            <a:hlinkClick r:id="rId3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3">
            <a:hlinkClick r:id="rId5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64">
            <a:hlinkClick r:id="rId6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5">
            <a:hlinkClick r:id="rId8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66">
            <a:hlinkClick r:id="rId9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7">
            <a:hlinkClick r:id="rId11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68">
            <a:hlinkClick r:id="rId12" action="ppaction://hlinksldjump"/>
          </p:cNvPr>
          <p:cNvSpPr/>
          <p:nvPr/>
        </p:nvSpPr>
        <p:spPr>
          <a:xfrm>
            <a:off x="4741920" y="629748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69">
            <a:hlinkClick r:id="rId14" action="ppaction://hlinksldjump"/>
          </p:cNvPr>
          <p:cNvSpPr/>
          <p:nvPr/>
        </p:nvSpPr>
        <p:spPr>
          <a:xfrm>
            <a:off x="4843440" y="630072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46240" y="990360"/>
            <a:ext cx="86104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80000" indent="-180000">
              <a:spcBef>
                <a:spcPts val="21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s 3 and 4 of the 25th Amendment provide procedures to follow when the President is disab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0000" indent="-180000">
              <a:spcBef>
                <a:spcPts val="21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ice President is to become acting President 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42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 the President informs Congress, in writing, “that he is unable to discharge the powers and duties of his office,”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42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 the Vice President and a majority of the members of the Cabinet inform Congress, in writing, that the President is thus incapacit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0000" indent="-180000">
              <a:spcBef>
                <a:spcPts val="15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ident can resume powers and duties of office by informing Congress that no inability ex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6240" indent="-122400">
              <a:lnSpc>
                <a:spcPct val="9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 and majority of Congress can challenge P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43840" indent="-11340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gress has 21 days to decide on the ma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42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50000">
              <a:srgbClr val="ffffff"/>
            </a:gs>
            <a:gs pos="100000">
              <a:srgbClr val="92d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Vice Presidency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70000" y="95688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98800" indent="-29880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stitution only gives the Vice President two duties besides becoming President if the President is removed from off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760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to preside over the Senate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760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to help decide the question of presidential disa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800" indent="-29880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office of Vice President becomes vacant, the President nominates a new Vice President subject to the approval of Cong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800" indent="-29880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, the Vice President often performs diplomatic and political chores for the Presid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3, Sec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1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2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3">
            <a:hlinkClick r:id="rId3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4">
            <a:hlinkClick r:id="rId5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5">
            <a:hlinkClick r:id="rId6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6">
            <a:hlinkClick r:id="rId8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7">
            <a:hlinkClick r:id="rId9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8">
            <a:hlinkClick r:id="rId11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9">
            <a:hlinkClick r:id="rId12" action="ppaction://hlinksldjump"/>
          </p:cNvPr>
          <p:cNvSpPr/>
          <p:nvPr/>
        </p:nvSpPr>
        <p:spPr>
          <a:xfrm>
            <a:off x="4741920" y="629748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0">
            <a:hlinkClick r:id="rId14" action="ppaction://hlinksldjump"/>
          </p:cNvPr>
          <p:cNvSpPr/>
          <p:nvPr/>
        </p:nvSpPr>
        <p:spPr>
          <a:xfrm>
            <a:off x="4843440" y="630072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3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ffff"/>
                </a:solidFill>
                <a:latin typeface="Arial"/>
              </a:rPr>
              <a:t>Into the Oval Offic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3, Sec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5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6">
            <a:hlinkClick r:id="rId3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7">
            <a:hlinkClick r:id="rId5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8">
            <a:hlinkClick r:id="rId6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>
            <a:hlinkClick r:id="rId8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0">
            <a:hlinkClick r:id="rId9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>
            <a:hlinkClick r:id="rId11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3">
            <a:hlinkClick r:id="rId12" action="ppaction://hlinksldjump"/>
          </p:cNvPr>
          <p:cNvSpPr/>
          <p:nvPr/>
        </p:nvSpPr>
        <p:spPr>
          <a:xfrm>
            <a:off x="4741920" y="629748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4">
            <a:hlinkClick r:id="rId14" action="ppaction://hlinksldjump"/>
          </p:cNvPr>
          <p:cNvSpPr/>
          <p:nvPr/>
        </p:nvSpPr>
        <p:spPr>
          <a:xfrm>
            <a:off x="4843440" y="630072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1" descr="_x0014_MAG01se1302a5088.jpg                                           00000179_x000b_PenyackJ HD                    B33A4082:"/>
          <p:cNvPicPr/>
          <p:nvPr/>
        </p:nvPicPr>
        <p:blipFill>
          <a:blip r:embed="rId15"/>
          <a:stretch/>
        </p:blipFill>
        <p:spPr>
          <a:xfrm>
            <a:off x="353880" y="914400"/>
            <a:ext cx="8391600" cy="5178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ection 2 Review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57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Who is in line for presidential succession following the Vice Presid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the First La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the Speaker of the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the president of the Sen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the Secretary of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7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Which constitutional amendment provides for presidential success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the 25th Amend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the 26th Amend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the 22nd Amend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the 21st Amend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8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3, Sec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9"/>
          <p:cNvSpPr/>
          <p:nvPr/>
        </p:nvSpPr>
        <p:spPr>
          <a:xfrm>
            <a:off x="228600" y="571500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t to connect to the Magruder’s link for this section? 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Click Her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2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3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4">
            <a:hlinkClick r:id="rId4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5">
            <a:hlinkClick r:id="rId6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6">
            <a:hlinkClick r:id="rId7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7">
            <a:hlinkClick r:id="rId9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8">
            <a:hlinkClick r:id="rId10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9">
            <a:hlinkClick r:id="rId12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20">
            <a:hlinkClick r:id="rId13" action="ppaction://hlinksldjump"/>
          </p:cNvPr>
          <p:cNvSpPr/>
          <p:nvPr/>
        </p:nvSpPr>
        <p:spPr>
          <a:xfrm>
            <a:off x="4741920" y="629748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1">
            <a:hlinkClick r:id="rId15" action="ppaction://hlinksldjump"/>
          </p:cNvPr>
          <p:cNvSpPr/>
          <p:nvPr/>
        </p:nvSpPr>
        <p:spPr>
          <a:xfrm>
            <a:off x="4843440" y="630072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8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1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4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7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0" dur="5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5" dur="5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8" dur="500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1" dur="500"/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4" dur="500"/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7" dur="500"/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 H A P T E R  1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Presidency in Actio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58920" y="1695600"/>
            <a:ext cx="6276960" cy="346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79000"/>
          </a:bodyPr>
          <a:p>
            <a:pPr marL="26820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 action="ppaction://hlinksldjump"/>
              </a:rPr>
              <a:t>SECTION 1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2" action="ppaction://hlinksldjump"/>
              </a:rPr>
              <a:t>	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3" action="ppaction://hlinksldjump"/>
              </a:rPr>
              <a:t>The Growth of Presidential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4" action="ppaction://hlinksldjump"/>
              </a:rPr>
              <a:t>SECTION 2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5" action="ppaction://hlinksldjump"/>
              </a:rPr>
              <a:t>	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6" action="ppaction://hlinksldjump"/>
              </a:rPr>
              <a:t>The President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7" action="ppaction://hlinksldjump"/>
              </a:rPr>
              <a:t>’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8" action="ppaction://hlinksldjump"/>
              </a:rPr>
              <a:t>s Executive 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9" action="ppaction://hlinksldjump"/>
              </a:rPr>
              <a:t>SECTION 3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0" action="ppaction://hlinksldjump"/>
              </a:rPr>
              <a:t>	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1" action="ppaction://hlinksldjump"/>
              </a:rPr>
              <a:t>Diplomatic and Military 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2" action="ppaction://hlinksldjump"/>
              </a:rPr>
              <a:t>SECTION 4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3" action="ppaction://hlinksldjump"/>
              </a:rPr>
              <a:t>	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4" action="ppaction://hlinksldjump"/>
              </a:rPr>
              <a:t>Legislative and Judicial 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3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29">
            <a:hlinkClick r:id="rId15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0">
            <a:hlinkClick r:id="rId17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31">
            <a:hlinkClick r:id="rId18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2">
            <a:hlinkClick r:id="rId20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33">
            <a:hlinkClick r:id="rId21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4">
            <a:hlinkClick r:id="rId23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5">
            <a:hlinkClick r:id="rId24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6">
            <a:hlinkClick r:id="rId26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30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4, Sec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S E C T I O N  1</a:t>
            </a:r>
            <a:br>
              <a:rPr sz="1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Growth of Presidential Power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66760" y="10616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lnSpc>
                <a:spcPct val="110000"/>
              </a:lnSpc>
              <a:spcBef>
                <a:spcPts val="24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is Article II of the Constitution controversi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10000"/>
              </a:lnSpc>
              <a:spcBef>
                <a:spcPts val="24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has presidential power grown over ti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10000"/>
              </a:lnSpc>
              <a:spcBef>
                <a:spcPts val="24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have Presidents’ own views affected the power of the off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38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39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0">
            <a:hlinkClick r:id="rId3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1">
            <a:hlinkClick r:id="rId5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2">
            <a:hlinkClick r:id="rId6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3">
            <a:hlinkClick r:id="rId8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44">
            <a:hlinkClick r:id="rId9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5">
            <a:hlinkClick r:id="rId11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6600"/>
                </a:solidFill>
                <a:latin typeface="Arial"/>
              </a:rPr>
              <a:t>C H A P T E R  13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e Presidency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36720" y="1300320"/>
            <a:ext cx="792144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564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 action="ppaction://hlinksldjump"/>
              </a:rPr>
              <a:t>SECTION 1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2" action="ppaction://hlinksldjump"/>
              </a:rPr>
              <a:t>	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3" action="ppaction://hlinksldjump"/>
              </a:rPr>
              <a:t>The President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4" action="ppaction://hlinksldjump"/>
              </a:rPr>
              <a:t>’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5" action="ppaction://hlinksldjump"/>
              </a:rPr>
              <a:t>s Job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6" action="ppaction://hlinksldjump"/>
              </a:rPr>
              <a:t>SECTION 2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7" action="ppaction://hlinksldjump"/>
              </a:rPr>
              <a:t>	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8" action="ppaction://hlinksldjump"/>
              </a:rPr>
              <a:t>Presidential Succession and the Vice Presi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9" action="ppaction://hlinksldjump"/>
              </a:rPr>
              <a:t>SECTION 3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0" action="ppaction://hlinksldjump"/>
              </a:rPr>
              <a:t>	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1" action="ppaction://hlinksldjump"/>
              </a:rPr>
              <a:t>Presidential Selection: The Framers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2" action="ppaction://hlinksldjump"/>
              </a:rPr>
              <a:t>’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3" action="ppaction://hlinksldjump"/>
              </a:rPr>
              <a:t>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4" action="ppaction://hlinksldjump"/>
              </a:rPr>
              <a:t>SECTION 4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5" action="ppaction://hlinksldjump"/>
              </a:rPr>
              <a:t>	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6" action="ppaction://hlinksldjump"/>
              </a:rPr>
              <a:t>Presidential Nom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7" action="ppaction://hlinksldjump"/>
              </a:rPr>
              <a:t>SECTION 5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8" action="ppaction://hlinksldjump"/>
              </a:rPr>
              <a:t>	The 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9">
            <a:hlinkClick r:id="rId19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0">
            <a:hlinkClick r:id="rId21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1">
            <a:hlinkClick r:id="rId22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2">
            <a:hlinkClick r:id="rId24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3">
            <a:hlinkClick r:id="rId25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4">
            <a:hlinkClick r:id="rId27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5">
            <a:hlinkClick r:id="rId28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6">
            <a:hlinkClick r:id="rId30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9">
            <a:hlinkClick r:id="rId31" action="ppaction://hlinksldjump"/>
          </p:cNvPr>
          <p:cNvSpPr/>
          <p:nvPr/>
        </p:nvSpPr>
        <p:spPr>
          <a:xfrm>
            <a:off x="4749840" y="629748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0">
            <a:hlinkClick r:id="rId33" action="ppaction://hlinksldjump"/>
          </p:cNvPr>
          <p:cNvSpPr/>
          <p:nvPr/>
        </p:nvSpPr>
        <p:spPr>
          <a:xfrm>
            <a:off x="4851360" y="630072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5"/>
          <p:cNvSpPr/>
          <p:nvPr/>
        </p:nvSpPr>
        <p:spPr>
          <a:xfrm>
            <a:off x="266760" y="2743200"/>
            <a:ext cx="8610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rticle II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66480" y="844560"/>
            <a:ext cx="8413560" cy="13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93840" indent="-279360">
              <a:spcBef>
                <a:spcPts val="18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rticle II, the Constitution’s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xecutive Article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, begins this wa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3"/>
          <p:cNvSpPr/>
          <p:nvPr/>
        </p:nvSpPr>
        <p:spPr>
          <a:xfrm>
            <a:off x="5711040" y="640080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4, Sec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6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7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8">
            <a:hlinkClick r:id="rId3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9">
            <a:hlinkClick r:id="rId5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20">
            <a:hlinkClick r:id="rId6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1">
            <a:hlinkClick r:id="rId8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22">
            <a:hlinkClick r:id="rId9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3">
            <a:hlinkClick r:id="rId11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6"/>
          <p:cNvSpPr/>
          <p:nvPr/>
        </p:nvSpPr>
        <p:spPr>
          <a:xfrm>
            <a:off x="208080" y="3995640"/>
            <a:ext cx="841356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93840" indent="-279360" algn="ctr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Arial"/>
                <a:ea typeface="ＭＳ Ｐゴシック"/>
              </a:rPr>
              <a:t>With these few words, the Framers established the presidenc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7"/>
          <p:cNvSpPr/>
          <p:nvPr/>
        </p:nvSpPr>
        <p:spPr>
          <a:xfrm>
            <a:off x="352440" y="2119320"/>
            <a:ext cx="841356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93840" indent="-279360" algn="ctr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“</a:t>
            </a:r>
            <a:r>
              <a:rPr b="0" i="1" lang="en-US" sz="36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The executive power shall be vested in a President of the United States of America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3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8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osely Defined 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990360"/>
            <a:ext cx="861048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6240" indent="-336240">
              <a:spcBef>
                <a:spcPts val="180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nstitution says the president can command the armed forces, make treaties, approve or veto the acts of Congress, call special session of Congress, receive and send diplomatic 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spcBef>
                <a:spcPts val="210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21204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It reads like an ou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21204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most loosely drawn chapter</a:t>
            </a:r>
            <a:r>
              <a:rPr b="1" lang="ja-JP" sz="2400" spc="-1" strike="noStrike">
                <a:solidFill>
                  <a:srgbClr val="ffc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21204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Doesn</a:t>
            </a:r>
            <a:r>
              <a:rPr b="1" lang="ja-JP" sz="2400" spc="-1" strike="noStrike">
                <a:solidFill>
                  <a:srgbClr val="ffc000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t define the </a:t>
            </a:r>
            <a:r>
              <a:rPr b="1" lang="ja-JP" sz="2400" spc="-1" strike="noStrike">
                <a:solidFill>
                  <a:srgbClr val="ffc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executive power</a:t>
            </a:r>
            <a:r>
              <a:rPr b="1" lang="ja-JP" sz="2400" spc="-1" strike="noStrike">
                <a:solidFill>
                  <a:srgbClr val="ffc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spcBef>
                <a:spcPts val="210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o, presidential power has grown over the last 200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Why Presidential Power Has Grow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5711040" y="640080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4, Sec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40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41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42">
            <a:hlinkClick r:id="rId3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3">
            <a:hlinkClick r:id="rId5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44">
            <a:hlinkClick r:id="rId6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5">
            <a:hlinkClick r:id="rId8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46">
            <a:hlinkClick r:id="rId9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7">
            <a:hlinkClick r:id="rId11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 algn="ctr">
              <a:spcBef>
                <a:spcPts val="33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Arial"/>
              </a:rPr>
              <a:t>Over the course of American history, the champions of a stronger presidency have almost always prevailed and the presidency has picked up more and more pow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6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Content Placeholder 3" descr=""/>
          <p:cNvPicPr/>
          <p:nvPr/>
        </p:nvPicPr>
        <p:blipFill>
          <a:blip r:embed="rId1"/>
          <a:stretch/>
        </p:blipFill>
        <p:spPr>
          <a:xfrm>
            <a:off x="-1109520" y="-12600"/>
            <a:ext cx="1189332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ection 1 Review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The Executive Article of the Constitution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Article 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Article I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Article I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Article 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The two views of presidential power are mostly centered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the extent of powers the President may act wi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the President’s relationship to the elector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constitutional amendments curtailing presidential po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27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none of the above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5711040" y="640080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4, Sec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228600" y="571500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t to connect to the Magruder’s link for this section? 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" action="ppaction://hlinksldjump"/>
              </a:rPr>
              <a:t>Click Her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1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2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3">
            <a:hlinkClick r:id="rId4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4">
            <a:hlinkClick r:id="rId6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5">
            <a:hlinkClick r:id="rId7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6">
            <a:hlinkClick r:id="rId9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17">
            <a:hlinkClick r:id="rId10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8">
            <a:hlinkClick r:id="rId12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S E C T I O N  2</a:t>
            </a:r>
            <a:br>
              <a:rPr sz="1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President’s Executive Power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67840" y="901440"/>
            <a:ext cx="8610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2400" indent="-302400">
              <a:lnSpc>
                <a:spcPct val="110000"/>
              </a:lnSpc>
              <a:spcBef>
                <a:spcPts val="2401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does the President get the power to execute federal law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10000"/>
              </a:lnSpc>
              <a:spcBef>
                <a:spcPts val="2401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ordinance power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where does it come fr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10000"/>
              </a:lnSpc>
              <a:spcBef>
                <a:spcPts val="2401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es the appointing power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10000"/>
              </a:lnSpc>
              <a:spcBef>
                <a:spcPts val="2401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has the debate over the removal power evol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5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4, Sec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31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32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41">
            <a:hlinkClick r:id="rId3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42">
            <a:hlinkClick r:id="rId5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43">
            <a:hlinkClick r:id="rId6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4">
            <a:hlinkClick r:id="rId8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45">
            <a:hlinkClick r:id="rId9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6">
            <a:hlinkClick r:id="rId11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3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8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8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59920" y="1801440"/>
            <a:ext cx="8610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What are the executive powers and how are they establish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*Fill out your tree map as we go through the Powerpoint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8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4, Sec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13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4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5">
            <a:hlinkClick r:id="rId3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6">
            <a:hlinkClick r:id="rId5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17">
            <a:hlinkClick r:id="rId6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8">
            <a:hlinkClick r:id="rId8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9">
            <a:hlinkClick r:id="rId9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0">
            <a:hlinkClick r:id="rId11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#1 Executing the Law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2480" indent="-31248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As chief executive, the President executes (enforces, administers, carries out) the provisions of federal l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480" indent="-31248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oath of office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instructs the President to carry out the laws of the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480" indent="-31248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The other provision is the Constitution’s command that “he shall take care that the laws be faithfully execute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4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0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6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1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Arial"/>
              </a:rPr>
              <a:t>#2 The Ordinance Power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4, Sec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60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61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62">
            <a:hlinkClick r:id="rId3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63">
            <a:hlinkClick r:id="rId5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64">
            <a:hlinkClick r:id="rId6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65">
            <a:hlinkClick r:id="rId8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66">
            <a:hlinkClick r:id="rId9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7">
            <a:hlinkClick r:id="rId11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9320" indent="-31932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Arial"/>
              </a:rPr>
              <a:t>The President has the power to issue executive orders. A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xecutive order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9966ff"/>
                </a:solidFill>
                <a:latin typeface="Arial"/>
              </a:rPr>
              <a:t>is a directive, rule, or regulation that has the effect of la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9320" indent="-31932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Arial"/>
              </a:rPr>
              <a:t>The power to issue these orders, 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rdinance power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, </a:t>
            </a:r>
            <a:r>
              <a:rPr b="0" lang="en-US" sz="2400" spc="-1" strike="noStrike">
                <a:solidFill>
                  <a:srgbClr val="9966ff"/>
                </a:solidFill>
                <a:latin typeface="Arial"/>
              </a:rPr>
              <a:t>arises from two sources: the Constitution and acts of Congr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76"/>
          <p:cNvSpPr/>
          <p:nvPr/>
        </p:nvSpPr>
        <p:spPr>
          <a:xfrm>
            <a:off x="309600" y="3754440"/>
            <a:ext cx="8304120" cy="22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15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Arial"/>
              </a:rPr>
              <a:t>Although not specifically mentioned in the Constitution, the ordinance power is clearly intended.</a:t>
            </a: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0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4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9" dur="5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#3 The Appointment Power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48760" y="1091880"/>
            <a:ext cx="861084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With Senate consent, the President names most of the top-ranking officers of the Federal Government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14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(1) ambassadors and other diploma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14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(2) Cabinet members and their top aid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14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(3) the heads of such independent agencies as the EPA and NAS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14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(4) all federal judges, attorneys, and U.S. marsha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14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(5) all officers in the armed fo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8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4, Sec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1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2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3">
            <a:hlinkClick r:id="rId3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4">
            <a:hlinkClick r:id="rId5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5">
            <a:hlinkClick r:id="rId6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6">
            <a:hlinkClick r:id="rId8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17">
            <a:hlinkClick r:id="rId9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8">
            <a:hlinkClick r:id="rId11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0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7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2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7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2" dur="5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7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2" dur="500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0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3, Sec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6600"/>
                </a:solidFill>
                <a:latin typeface="Arial"/>
              </a:rPr>
              <a:t>S E C T I O N  1</a:t>
            </a:r>
            <a:br>
              <a:rPr sz="1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e President’s Job Descriptio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66760" y="109512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resident’s many ro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formal qualifications necessary to become Presid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sues have arisen involving the length of the President’s ter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the President compens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8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9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0">
            <a:hlinkClick r:id="rId3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1">
            <a:hlinkClick r:id="rId5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2">
            <a:hlinkClick r:id="rId6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3">
            <a:hlinkClick r:id="rId8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4">
            <a:hlinkClick r:id="rId9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5">
            <a:hlinkClick r:id="rId11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6">
            <a:hlinkClick r:id="rId12" action="ppaction://hlinksldjump"/>
          </p:cNvPr>
          <p:cNvSpPr/>
          <p:nvPr/>
        </p:nvSpPr>
        <p:spPr>
          <a:xfrm>
            <a:off x="4749840" y="629748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7">
            <a:hlinkClick r:id="rId14" action="ppaction://hlinksldjump"/>
          </p:cNvPr>
          <p:cNvSpPr/>
          <p:nvPr/>
        </p:nvSpPr>
        <p:spPr>
          <a:xfrm>
            <a:off x="4851360" y="630072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#4 The Removal Power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3" name="Rectangle 3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4, Sec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4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5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6">
            <a:hlinkClick r:id="rId3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7">
            <a:hlinkClick r:id="rId5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8">
            <a:hlinkClick r:id="rId6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9">
            <a:hlinkClick r:id="rId8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0">
            <a:hlinkClick r:id="rId9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1">
            <a:hlinkClick r:id="rId11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21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bate ensued in the First Congress as to whether the President could remove appointees without the consent of the Sen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21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view that the President may remove the officials he appoints without Senate consent has prevailed over ti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21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 general, the President may remove those whom the President appoints except federal jud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0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5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0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5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ection 2 Review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2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The President is commanded to execute the provisions of federal law b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4960" indent="-196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acts of Congr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4960" indent="-196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the oath of office and another constitutional provi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4960" indent="-196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the Supreme Cou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4960" indent="-196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the electoral colle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4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Which of the following government officials is not appointed by the Presid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4960" indent="-196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Supreme Court just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4960" indent="-196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Cabinet members and their top ai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4960" indent="-196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Speaker of the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4960" indent="-196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ambassadors and other diplom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4, Sec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228600" y="571500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t to connect to the Magruder’s link for this section? 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Click Her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12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13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14">
            <a:hlinkClick r:id="rId4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5">
            <a:hlinkClick r:id="rId6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6">
            <a:hlinkClick r:id="rId7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7">
            <a:hlinkClick r:id="rId9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8">
            <a:hlinkClick r:id="rId10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9">
            <a:hlinkClick r:id="rId12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0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8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1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4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7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0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5" dur="500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8" dur="500"/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1" dur="500"/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4" dur="500"/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7" dur="500"/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1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4, Section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Arial"/>
              </a:rPr>
              <a:t>S E C T I O N  3</a:t>
            </a:r>
            <a:br>
              <a:rPr sz="1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iplomatic and Military Power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54160" y="990360"/>
            <a:ext cx="86342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9320" indent="-319320">
              <a:lnSpc>
                <a:spcPct val="110000"/>
              </a:lnSpc>
              <a:spcBef>
                <a:spcPts val="24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are treaties made and appro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9320" indent="-319320">
              <a:lnSpc>
                <a:spcPct val="110000"/>
              </a:lnSpc>
              <a:spcBef>
                <a:spcPts val="24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y and how are executive agreements ma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9320" indent="-319320">
              <a:lnSpc>
                <a:spcPct val="110000"/>
              </a:lnSpc>
              <a:spcBef>
                <a:spcPts val="24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purpose does the power of recognition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9320" indent="-319320">
              <a:lnSpc>
                <a:spcPct val="110000"/>
              </a:lnSpc>
              <a:spcBef>
                <a:spcPts val="24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powers does the President have in the role of commander in chi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29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30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31">
            <a:hlinkClick r:id="rId3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32">
            <a:hlinkClick r:id="rId5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35">
            <a:hlinkClick r:id="rId6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36">
            <a:hlinkClick r:id="rId8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37">
            <a:hlinkClick r:id="rId9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38">
            <a:hlinkClick r:id="rId11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0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Content Placeholder 3" descr=""/>
          <p:cNvPicPr/>
          <p:nvPr/>
        </p:nvPicPr>
        <p:blipFill>
          <a:blip r:embed="rId1"/>
          <a:stretch/>
        </p:blipFill>
        <p:spPr>
          <a:xfrm>
            <a:off x="-1596960" y="208080"/>
            <a:ext cx="12453840" cy="6137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#1 Commander in Chief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61440" y="1785600"/>
            <a:ext cx="8610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99ff"/>
                </a:solidFill>
                <a:latin typeface="Arial"/>
              </a:rPr>
              <a:t>Making Undeclared W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66ff"/>
                </a:solidFill>
                <a:latin typeface="Arial"/>
              </a:rPr>
              <a:t>Many Presidents have used the armed forces abroad without a declaration of war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Wartime Pow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66ff"/>
                </a:solidFill>
                <a:latin typeface="Arial"/>
              </a:rPr>
              <a:t>The President’s powers as commander in chief are far greater during a war than they are in normal tim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99cc00"/>
                </a:solidFill>
                <a:latin typeface="Arial"/>
              </a:rPr>
              <a:t>The War Powers Re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66ff"/>
                </a:solidFill>
                <a:latin typeface="Arial"/>
              </a:rPr>
              <a:t>The War Powers Resolution of 1973 limits the President’s war-making pow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4, Section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5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6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7">
            <a:hlinkClick r:id="rId3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8">
            <a:hlinkClick r:id="rId5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9">
            <a:hlinkClick r:id="rId6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0">
            <a:hlinkClick r:id="rId8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11">
            <a:hlinkClick r:id="rId9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2">
            <a:hlinkClick r:id="rId11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3"/>
          <p:cNvSpPr/>
          <p:nvPr/>
        </p:nvSpPr>
        <p:spPr>
          <a:xfrm>
            <a:off x="165240" y="871560"/>
            <a:ext cx="861048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ctr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ff"/>
                </a:solidFill>
                <a:uFillTx/>
                <a:latin typeface="Arial"/>
              </a:rPr>
              <a:t>The Constitution makes the President the commander in chief of the nation’s armed fo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0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8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73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78" dur="5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83" dur="5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88" dur="50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93" dur="500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#2 The Power to Make Treatie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0" name="Rectangle 9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4, Section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14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15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16">
            <a:hlinkClick r:id="rId3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7">
            <a:hlinkClick r:id="rId5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8">
            <a:hlinkClick r:id="rId6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9">
            <a:hlinkClick r:id="rId8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20">
            <a:hlinkClick r:id="rId9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21">
            <a:hlinkClick r:id="rId11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16000" y="96012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6160" indent="-326160">
              <a:spcBef>
                <a:spcPts val="24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reaty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 is a formal agreement between two or more sovereign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160" indent="-326160">
              <a:spcBef>
                <a:spcPts val="24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The President, usually through the secretary of state, negotiates these internation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6160" indent="-326160">
              <a:spcBef>
                <a:spcPts val="24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All treaties must pass approval by a two thirds of the members present vote in the Sen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#3 Executive Agreement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1" name="Rectangle 8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4, Section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11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12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13">
            <a:hlinkClick r:id="rId3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4">
            <a:hlinkClick r:id="rId5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15">
            <a:hlinkClick r:id="rId6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6">
            <a:hlinkClick r:id="rId8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17">
            <a:hlinkClick r:id="rId9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8">
            <a:hlinkClick r:id="rId11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27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Arial"/>
              </a:rPr>
              <a:t>An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executive agreement </a:t>
            </a:r>
            <a:r>
              <a:rPr b="0" lang="en-US" sz="3600" spc="-1" strike="noStrike">
                <a:solidFill>
                  <a:srgbClr val="ff66ff"/>
                </a:solidFill>
                <a:latin typeface="Arial"/>
              </a:rPr>
              <a:t>is a pact between the President and the head of a foreign state, or a subordina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6"/>
          <p:cNvSpPr/>
          <p:nvPr/>
        </p:nvSpPr>
        <p:spPr>
          <a:xfrm>
            <a:off x="307800" y="2989440"/>
            <a:ext cx="86108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210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Unlike  treaties, executive agreements do not require Senate consent and do not become a permanent part of American la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210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Ex: we gave Britain 50 destroyer naval vessels to combat the Germans in WWII and we received a 99-year lease to a string of air and naval bases fro Newfoundland to the Caribbe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#4 The Power of Recognitio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3" name="Rectangle 8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4, Section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13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14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5">
            <a:hlinkClick r:id="rId3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6">
            <a:hlinkClick r:id="rId5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17">
            <a:hlinkClick r:id="rId6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8">
            <a:hlinkClick r:id="rId8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19">
            <a:hlinkClick r:id="rId9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0">
            <a:hlinkClick r:id="rId11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27"/>
          <p:cNvSpPr/>
          <p:nvPr/>
        </p:nvSpPr>
        <p:spPr>
          <a:xfrm>
            <a:off x="304920" y="990720"/>
            <a:ext cx="861048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ctr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he power of 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recognition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 is exercised when the President, acting for the United States, acknowledges the legal existence of another sovereig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28"/>
          <p:cNvSpPr/>
          <p:nvPr/>
        </p:nvSpPr>
        <p:spPr>
          <a:xfrm>
            <a:off x="282600" y="3214800"/>
            <a:ext cx="86104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The President may show American displeasure with the conduct of another country by asking for the recall of that nation’s ambassador or other diplomatic representatives in this coun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The official is declared to be </a:t>
            </a:r>
            <a:r>
              <a:rPr b="1" i="1" lang="en-US" sz="2400" spc="-1" strike="noStrike">
                <a:solidFill>
                  <a:srgbClr val="ff9933"/>
                </a:solidFill>
                <a:latin typeface="Arial"/>
              </a:rPr>
              <a:t>persona non grata,</a:t>
            </a: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or an unwelcome per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2" dur="5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7" dur="5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ection 3 Review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A treaty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26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the power to build a navy and other armed for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26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formal agreement between two or more sovereign stat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26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recognition of a foreign government by the Presid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26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a condemnation of a foreign government by the American peop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When acting as head of the nation’s armed forces, the President is filling the role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26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commander in chie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26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chief legisla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26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head elec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26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president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o tempo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8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4, Section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228600" y="571500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t to connect to the Magruder’s link for this section? 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Click Her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12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3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4">
            <a:hlinkClick r:id="rId4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5">
            <a:hlinkClick r:id="rId6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6">
            <a:hlinkClick r:id="rId7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7">
            <a:hlinkClick r:id="rId9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18">
            <a:hlinkClick r:id="rId10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9">
            <a:hlinkClick r:id="rId12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4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4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4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4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S E C T I O N  4</a:t>
            </a:r>
            <a:br>
              <a:rPr sz="1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gislative and Judicial Power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67840" y="1312560"/>
            <a:ext cx="8610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lnSpc>
                <a:spcPct val="110000"/>
              </a:lnSpc>
              <a:spcBef>
                <a:spcPts val="2251"/>
              </a:spcBef>
              <a:buClr>
                <a:srgbClr val="ff9933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 are the President’s legislative powers an important part of the system of checks and balanc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10000"/>
              </a:lnSpc>
              <a:spcBef>
                <a:spcPts val="2251"/>
              </a:spcBef>
              <a:buClr>
                <a:srgbClr val="ff9933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are the President’s major judicial power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4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4, Section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12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3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4">
            <a:hlinkClick r:id="rId3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5">
            <a:hlinkClick r:id="rId5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16">
            <a:hlinkClick r:id="rId6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7">
            <a:hlinkClick r:id="rId8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20">
            <a:hlinkClick r:id="rId9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1">
            <a:hlinkClick r:id="rId11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nodeType="clickEffect" fill="hold">
                      <p:stCondLst>
                        <p:cond delay="0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2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7" dur="5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many hats of the president…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ef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ef Execu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ef Admini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ef Diplo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ander in Ch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ef Legis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ef of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ef Citi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Presidential Hat"/>
          <p:cNvPicPr/>
          <p:nvPr/>
        </p:nvPicPr>
        <p:blipFill>
          <a:blip r:embed="rId1"/>
          <a:stretch/>
        </p:blipFill>
        <p:spPr>
          <a:xfrm flipH="1" rot="1470000">
            <a:off x="4949640" y="1899720"/>
            <a:ext cx="2841480" cy="3243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gislative Power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4, Section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16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17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18">
            <a:hlinkClick r:id="rId3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9">
            <a:hlinkClick r:id="rId5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20">
            <a:hlinkClick r:id="rId6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1">
            <a:hlinkClick r:id="rId8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22">
            <a:hlinkClick r:id="rId9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3">
            <a:hlinkClick r:id="rId11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74320" y="872640"/>
            <a:ext cx="422892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#1 Recommending Legi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The Constitution provides that the President shall report to Congress on the state of the Union and recommend necessary legi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This power is often called the </a:t>
            </a:r>
            <a:r>
              <a:rPr b="0" i="1" lang="en-US" sz="1800" spc="-1" strike="noStrike">
                <a:solidFill>
                  <a:srgbClr val="99cc00"/>
                </a:solidFill>
                <a:latin typeface="Arial"/>
              </a:rPr>
              <a:t>message power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President must send three messages: State of the Union, budget message, and economic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31"/>
          <p:cNvSpPr/>
          <p:nvPr/>
        </p:nvSpPr>
        <p:spPr>
          <a:xfrm>
            <a:off x="4680000" y="893880"/>
            <a:ext cx="422892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#2 The Veto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1375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ll legislation passed by Congress is sent to the President for approva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1375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f the President disapproves of a bill, he can veto it. That veto can only be overturned by a two-thirds vote of both houses of Congr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nodeType="clickEffect" fill="hold">
                      <p:stCondLst>
                        <p:cond delay="0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24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29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34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gislative Powers Cont.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4560" y="835200"/>
            <a:ext cx="8537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#3 The Line Item V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ine-item veto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easure would allow the President to reject specific dollar amounts in spending bills enacted by Cong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 1996, Congress passed the Line Item Veto Act; however, it was struck down by the Supreme Court in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06000" y="4064040"/>
            <a:ext cx="85359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 algn="ctr">
              <a:spcBef>
                <a:spcPts val="2100"/>
              </a:spcBef>
              <a:buClr>
                <a:srgbClr val="000000"/>
              </a:buClr>
              <a:buSzPct val="15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#4 Other Legislative 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According to Article II, Section 3 of the Constitution, only the President can call a Congress into special sess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4, Section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6">
            <a:hlinkClick r:id="rId1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7">
            <a:hlinkClick r:id="rId3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8">
            <a:hlinkClick r:id="rId4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9">
            <a:hlinkClick r:id="rId6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0">
            <a:hlinkClick r:id="rId7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1">
            <a:hlinkClick r:id="rId9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12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3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0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Judicial Power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66760" y="926640"/>
            <a:ext cx="854064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2480" indent="-312480">
              <a:spcBef>
                <a:spcPts val="150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The Constitution gives the President the power to </a:t>
            </a:r>
            <a:r>
              <a:rPr b="0" i="1" lang="en-US" sz="2000" spc="-1" strike="noStrike">
                <a:solidFill>
                  <a:srgbClr val="ff5050"/>
                </a:solidFill>
                <a:latin typeface="Arial"/>
              </a:rPr>
              <a:t>“...grant reprieves and pardons for offenses against the United States, except in cases of impeachment.”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 —Article II, Section 2, Clau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480" indent="-312480">
              <a:spcBef>
                <a:spcPts val="180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#1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Grant reprieves: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prieve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 is the postponement of the execution of a sent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480" indent="-312480">
              <a:spcBef>
                <a:spcPts val="180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#2 Grant Pardons: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rdon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 is legal forgiveness for a cr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480" indent="-312480">
              <a:spcBef>
                <a:spcPts val="180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#3 Grant commutation: These powers of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mmutation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to reduce a fine or length of a sentence imposed by a cou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480" indent="-312480">
              <a:spcBef>
                <a:spcPts val="180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#4 Grant amnesty: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mnesty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is a blanket pardon offered to a group of law violators [Pre. Ben. Harrison, Mormons, anti-polygamy in 1893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7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4, Section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52"/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3"/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54"/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5"/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56"/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57"/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60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61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0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4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9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9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ection 4 Review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A presidential veto of legislation can only be overturned by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14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two-thirds vote in both houses of Congr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14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two-thirds vote in the Sen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14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two-thirds vote in the Hou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14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three-fifths vote in both houses of Congr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Reprieves and pardons are both examples of the President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14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appointment po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14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wartime pow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14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ordinance po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14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clemency po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7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4, Section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8"/>
          <p:cNvSpPr/>
          <p:nvPr/>
        </p:nvSpPr>
        <p:spPr>
          <a:xfrm>
            <a:off x="228600" y="571500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t to connect to the Magruder’s link for this section? Click Her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11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12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13"/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4"/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15"/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6"/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17"/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8"/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nodeType="clickEffect" fill="hold">
                      <p:stCondLst>
                        <p:cond delay="0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5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5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5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5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5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5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5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5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5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5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5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5"/>
          <p:cNvSpPr/>
          <p:nvPr/>
        </p:nvSpPr>
        <p:spPr>
          <a:xfrm>
            <a:off x="266760" y="2743200"/>
            <a:ext cx="8610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e President’s Role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5711040" y="640080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3, Sec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6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7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8">
            <a:hlinkClick r:id="rId3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9">
            <a:hlinkClick r:id="rId5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20">
            <a:hlinkClick r:id="rId6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1">
            <a:hlinkClick r:id="rId8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22">
            <a:hlinkClick r:id="rId9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3">
            <a:hlinkClick r:id="rId11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4">
            <a:hlinkClick r:id="rId12" action="ppaction://hlinksldjump"/>
          </p:cNvPr>
          <p:cNvSpPr/>
          <p:nvPr/>
        </p:nvSpPr>
        <p:spPr>
          <a:xfrm>
            <a:off x="4749840" y="629748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5">
            <a:hlinkClick r:id="rId14" action="ppaction://hlinksldjump"/>
          </p:cNvPr>
          <p:cNvSpPr/>
          <p:nvPr/>
        </p:nvSpPr>
        <p:spPr>
          <a:xfrm>
            <a:off x="4851360" y="630072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0000" y="896760"/>
            <a:ext cx="86104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2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hief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4440" indent="-190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sident is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hief of st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is means he is the ceremonial head of the government of the United States, the symbol of all the people of the 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2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ief Execu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4440" indent="-190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stitution vests the President with the executive power of the United States, making him or her the nation’s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hief execu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2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hief Admini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4440" indent="-190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sident is the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hief administra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director, of the United States gover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2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Chief Diplo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4440" indent="-190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nation’s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hief diplom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sident is the main architect of American foreign policy and chief spokesperson to the rest of the worl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24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More Roles of the President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5711040" y="640080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3, Sec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0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41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42">
            <a:hlinkClick r:id="rId3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3">
            <a:hlinkClick r:id="rId5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44">
            <a:hlinkClick r:id="rId6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5">
            <a:hlinkClick r:id="rId8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46">
            <a:hlinkClick r:id="rId9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7">
            <a:hlinkClick r:id="rId11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8">
            <a:hlinkClick r:id="rId12" action="ppaction://hlinksldjump"/>
          </p:cNvPr>
          <p:cNvSpPr/>
          <p:nvPr/>
        </p:nvSpPr>
        <p:spPr>
          <a:xfrm>
            <a:off x="4735440" y="629748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9">
            <a:hlinkClick r:id="rId14" action="ppaction://hlinksldjump"/>
          </p:cNvPr>
          <p:cNvSpPr/>
          <p:nvPr/>
        </p:nvSpPr>
        <p:spPr>
          <a:xfrm>
            <a:off x="4836960" y="630072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70000" y="10029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988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mander in Ch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7600" indent="-1882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stitution makes the President the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ommander in chie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ving him or her complete control of the nation’s armed fo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8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hief Legisla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7600" indent="-1882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sident is the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hief legisla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in architect of the nation’s public polic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8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hief of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7600" indent="-188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sident acts as the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hief of par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cknowledged leader of the political party that controls the executive branch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8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Chief Citi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7600" indent="-1882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sident is expected to be “the representative of all the peopl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2"/>
          <p:cNvSpPr/>
          <p:nvPr/>
        </p:nvSpPr>
        <p:spPr>
          <a:xfrm>
            <a:off x="5711040" y="640080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3, Sec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6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7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8">
            <a:hlinkClick r:id="rId3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9">
            <a:hlinkClick r:id="rId5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0">
            <a:hlinkClick r:id="rId6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1">
            <a:hlinkClick r:id="rId8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22">
            <a:hlinkClick r:id="rId9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3">
            <a:hlinkClick r:id="rId11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4">
            <a:hlinkClick r:id="rId12" action="ppaction://hlinksldjump"/>
          </p:cNvPr>
          <p:cNvSpPr/>
          <p:nvPr/>
        </p:nvSpPr>
        <p:spPr>
          <a:xfrm>
            <a:off x="4735440" y="629748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5">
            <a:hlinkClick r:id="rId14" action="ppaction://hlinksldjump"/>
          </p:cNvPr>
          <p:cNvSpPr/>
          <p:nvPr/>
        </p:nvSpPr>
        <p:spPr>
          <a:xfrm>
            <a:off x="4836960" y="630072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lifications for President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77" name="Object 31"/>
          <p:cNvGraphicFramePr/>
          <p:nvPr/>
        </p:nvGraphicFramePr>
        <p:xfrm>
          <a:off x="415800" y="2063880"/>
          <a:ext cx="8142480" cy="3879720"/>
        </p:xfrm>
        <a:graphic>
          <a:graphicData uri="http://schemas.openxmlformats.org/presentationml/2006/ole">
            <p:oleObj progId="Word.Document.12" r:id="rId15" spid="">
              <p:embed/>
              <p:pic>
                <p:nvPicPr>
                  <p:cNvPr id="178" name="Object 3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5800" y="2063880"/>
                    <a:ext cx="8142480" cy="38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Text Box 32"/>
          <p:cNvSpPr/>
          <p:nvPr/>
        </p:nvSpPr>
        <p:spPr>
          <a:xfrm>
            <a:off x="228600" y="876240"/>
            <a:ext cx="8712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rticle II, Section 1, Clause 5, of the Constitution says that the President mus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President’s Term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2400" indent="-302400">
              <a:lnSpc>
                <a:spcPct val="90000"/>
              </a:lnSpc>
              <a:spcBef>
                <a:spcPts val="21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il 1951, the Constitution placed no limit on the number of terms a President might ser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90000"/>
              </a:lnSpc>
              <a:spcBef>
                <a:spcPts val="21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ditionally, Presidents limited the number of terms served to two. This tradition was broken by Franklin D. Roosevelt in 1940 when he ran for and won a third term in office. He then went on to be elected to a fourth term in 194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90000"/>
              </a:lnSpc>
              <a:spcBef>
                <a:spcPts val="21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22nd Amendment placed limits on presidential terms. A President now may not be elected more than twice or only once if they became President due to succ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">
            <a:hlinkClick r:id="rId1" action="ppaction://hlinksldjump"/>
          </p:cNvPr>
          <p:cNvSpPr/>
          <p:nvPr/>
        </p:nvSpPr>
        <p:spPr>
          <a:xfrm>
            <a:off x="4735440" y="629748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>
            <a:hlinkClick r:id="rId3" action="ppaction://hlinksldjump"/>
          </p:cNvPr>
          <p:cNvSpPr/>
          <p:nvPr/>
        </p:nvSpPr>
        <p:spPr>
          <a:xfrm>
            <a:off x="4836960" y="630072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8">
            <a:hlinkClick r:id="rId6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>
            <a:hlinkClick r:id="rId8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0">
            <a:hlinkClick r:id="rId9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1">
            <a:hlinkClick r:id="rId11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2">
            <a:hlinkClick r:id="rId12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3">
            <a:hlinkClick r:id="rId14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5711040" y="640080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3, Sec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ay and Benefit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5960" y="1962000"/>
            <a:ext cx="4229280" cy="43214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txBody>
          <a:bodyPr anchor="t">
            <a:normAutofit fontScale="99000"/>
          </a:bodyPr>
          <a:p>
            <a:pPr marL="336240" indent="-33624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sident’s pay was first set at $25,000 a year in 1789. As of January 2001, the President is paid $400,000 a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ress has also approved an expense allowance for the President, which is currently $50,000 a year. Spent however he w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4">
            <a:hlinkClick r:id="rId1" action="ppaction://hlinksldjump"/>
          </p:cNvPr>
          <p:cNvSpPr/>
          <p:nvPr/>
        </p:nvSpPr>
        <p:spPr>
          <a:xfrm>
            <a:off x="4735440" y="629748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>
            <a:hlinkClick r:id="rId3" action="ppaction://hlinksldjump"/>
          </p:cNvPr>
          <p:cNvSpPr/>
          <p:nvPr/>
        </p:nvSpPr>
        <p:spPr>
          <a:xfrm>
            <a:off x="4836960" y="630072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5711040" y="640080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13, Sec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4880" y="1946160"/>
            <a:ext cx="4228920" cy="435312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ides monetary benefits, the President gets to live in the 132-room mansion that we call the White Hou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sident is also granted other benefits, including a large suite of offices, a staff, the us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ir Force 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many other fringe benefits, Camp David [MD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14280" y="952560"/>
            <a:ext cx="843300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gress determines the President’s salary, and this salary cannot be changed during a presidential term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9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0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1">
            <a:hlinkClick r:id="rId6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>
            <a:hlinkClick r:id="rId8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3">
            <a:hlinkClick r:id="rId9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4">
            <a:hlinkClick r:id="rId11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5">
            <a:hlinkClick r:id="rId12" action="ppaction://hlinksldjump"/>
          </p:cNvPr>
          <p:cNvSpPr/>
          <p:nvPr/>
        </p:nvSpPr>
        <p:spPr>
          <a:xfrm>
            <a:off x="41590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6">
            <a:hlinkClick r:id="rId14" action="ppaction://hlinksldjump"/>
          </p:cNvPr>
          <p:cNvSpPr/>
          <p:nvPr/>
        </p:nvSpPr>
        <p:spPr>
          <a:xfrm>
            <a:off x="4260960" y="628668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7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2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20:30:29Z</dcterms:created>
  <dc:creator>Prentice Hall</dc:creator>
  <dc:description/>
  <dc:language>en-US</dc:language>
  <cp:lastModifiedBy>olsonl olson</cp:lastModifiedBy>
  <cp:lastPrinted>2000-02-11T15:28:41Z</cp:lastPrinted>
  <dcterms:modified xsi:type="dcterms:W3CDTF">2017-05-10T13:58:56Z</dcterms:modified>
  <cp:revision>227</cp:revision>
  <dc:subject>World History Lecture Notes</dc:subject>
  <dc:title>Economics: Principles in Action</dc:title>
</cp:coreProperties>
</file>